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E489-E3C8-4C68-A1A9-F2169B5D0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9A75-774D-4C9E-8EC7-CA40DFC7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5A24-E04C-40F9-9795-0A4DE9EE0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DF8D-69E1-4324-868F-CBA70A739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3765-D7E8-4F20-9261-F1E77FAE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A466-9418-45E0-9549-A7297EC4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B9E3-ADE9-47BB-9ABB-9D02B352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AE4C-3762-4D34-9943-89710606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B497-2A42-4071-899C-2AAFEC72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0737-EC3C-4304-98AF-27FDF391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AAFA-3FA1-4588-9D35-A2E518B2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4545-A63A-4377-A3DB-FB003434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3D4E-3702-48FB-B959-23FC1B3C0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335520" y="77760"/>
            <a:ext cx="518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ESPEJ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-76320" y="983160"/>
            <a:ext cx="624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primera persona que debemos examinar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nosotros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320" y="312588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David (II Samuel 11-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ttp://jayhidalgo.com/wp-content/uploads/2014/03/man-looking-in-mirror.jpg"/>
          <p:cNvPicPr/>
          <p:nvPr/>
        </p:nvPicPr>
        <p:blipFill>
          <a:blip r:embed="rId1"/>
          <a:stretch/>
        </p:blipFill>
        <p:spPr>
          <a:xfrm>
            <a:off x="6210360" y="93600"/>
            <a:ext cx="2857320" cy="2886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http://laytreasuresinheaven.com/wp-content/uploads/2013/01/david-and-bathsheba.jpg"/>
          <p:cNvPicPr/>
          <p:nvPr/>
        </p:nvPicPr>
        <p:blipFill>
          <a:blip r:embed="rId2"/>
          <a:stretch/>
        </p:blipFill>
        <p:spPr>
          <a:xfrm>
            <a:off x="1932120" y="3733920"/>
            <a:ext cx="50781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152280" y="2213280"/>
            <a:ext cx="890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que los demás nos deben, por ello los usamos sin vergüenza alguna (v.2-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152280" y="327996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tar enderezar las cosas e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ugar de hacer las cosas bien (v.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152280" y="4348440"/>
            <a:ext cx="8904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husarse a aceptar el hecho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ríamos estar ciegamente fue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la voluntad de Dios (v.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152280" y="586224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que la gente de algun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era es prescindible (v.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43000" y="1146240"/>
            <a:ext cx="861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ejarse lentamente de aquellas disciplinas 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18252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davía demandamos de otros (v.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6320" y="115920"/>
            <a:ext cx="899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inco abusos de poder comunes que los líderes de hoy enfrent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ttp://www.australiancompetitionlaw.org/images/figures/mmp2.png"/>
          <p:cNvPicPr/>
          <p:nvPr/>
        </p:nvPicPr>
        <p:blipFill>
          <a:blip r:embed="rId1"/>
          <a:stretch/>
        </p:blipFill>
        <p:spPr>
          <a:xfrm>
            <a:off x="6629400" y="3094200"/>
            <a:ext cx="281952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2158560" y="23760"/>
            <a:ext cx="472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a prueba del espej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25640" y="725760"/>
            <a:ext cx="875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primera persona a l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OCE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62440" y="1832040"/>
            <a:ext cx="762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La primera persona con la que tengo 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LEVARM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conmigo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3124080" y="3129480"/>
            <a:ext cx="578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a primera persona que m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US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roblemas soy yo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124080" y="501912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La primera person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MBI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ttp://img.jillkonrath.com/hs-fs/hub/110248/file-22797243-jpg/images/man_looking_in_mirror.jpg"/>
          <p:cNvPicPr/>
          <p:nvPr/>
        </p:nvPicPr>
        <p:blipFill>
          <a:blip r:embed="rId1"/>
          <a:srcRect l="15675" t="0" r="12976" b="0"/>
          <a:stretch/>
        </p:blipFill>
        <p:spPr>
          <a:xfrm>
            <a:off x="228600" y="3052800"/>
            <a:ext cx="260676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228600" y="3708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La primera persona que pued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cer u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FERENC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soy y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223920" y="218232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La primera person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IDER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ttp://img.jillkonrath.com/hs-fs/hub/110248/file-22797243-jpg/images/man_looking_in_mirror.jpg"/>
          <p:cNvPicPr/>
          <p:nvPr/>
        </p:nvPicPr>
        <p:blipFill>
          <a:blip r:embed="rId1"/>
          <a:srcRect l="15675" t="0" r="12976" b="0"/>
          <a:stretch/>
        </p:blipFill>
        <p:spPr>
          <a:xfrm>
            <a:off x="6715080" y="133200"/>
            <a:ext cx="2352600" cy="32958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223920" y="3962520"/>
            <a:ext cx="8915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or lo cual eres inexcusable, oh hombre, quienquiera que seas tú que juzgas; pues en lo que juzgas a otro, te condenas a ti mismo; porque tú que juzgas haces lo mismo.”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omanos 2: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228600" y="1676520"/>
            <a:ext cx="92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 he examinado a mí mismo y tomado la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ponsabilidad por quién soy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533520" y="1117440"/>
            <a:ext cx="24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198360" y="71640"/>
            <a:ext cx="80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L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 heridas hieren a los demás 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lastimadas con fac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428760" y="1653480"/>
            <a:ext cx="62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isten muchas personas her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441360" y="2401920"/>
            <a:ext cx="85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frecuentemente hiere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84120" y="3560400"/>
            <a:ext cx="555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s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ecuentemente heridas por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380880" y="5097960"/>
            <a:ext cx="487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con frecuencia se h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í mism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ttp://cache3.asset-cache.net/xc/463153367.jpg?v=2&amp;c=IWSAsset&amp;k=2&amp;d=EsMnEt_SU23Ptf2qrsBoL1rIu72TXIcw2pKEE"/>
          <p:cNvPicPr/>
          <p:nvPr/>
        </p:nvPicPr>
        <p:blipFill>
          <a:blip r:embed="rId1"/>
          <a:srcRect l="17638" t="0" r="15118" b="0"/>
          <a:stretch/>
        </p:blipFill>
        <p:spPr>
          <a:xfrm>
            <a:off x="6172200" y="3187800"/>
            <a:ext cx="2408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50760" y="27360"/>
            <a:ext cx="9016920" cy="67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 : El rey Saú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(I Samuel 18:6-9, 12-16, 28-29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conteció que cuando volvían ellos, cuando David volvió de matar al filisteo, salieron las mujeres de todas las ciudades de Israel cantando y danzando, para recibir al rey Saúl, con panderos, con cánticos de alegría y con instrumentos de música. Y cantaban las mujeres que danzaban, y decían: Saúl hirió a sus miles, Y David a sus diez miles. Y se enojó Saúl en gran manera, y le desagradó este dicho, y dijo: A David dieron diez miles, y a mí miles; no le falta más que el reino. Y desde aquel día Saúl no miró con buenos ojos a David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12 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as Saúl estaba temeroso de David, por cuanto Jehová estaba con él, y se había apartado de Saúl; por lo cual Saúl lo alejó de sí, y le hizo jefe de mil; y salía y entraba delante del pueblo. Y David se conducía prudentemente en todos sus asuntos, y Jehová estaba con él. Y viendo Saúl que se portaba tan prudentemente, tenía temor de él. Mas todo Israel y Judá amaba a David, porque él salía y entraba delante de ellos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28 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ero Saúl, viendo y considerando que Jehová estaba con David, y que su hija Mical lo amaba, tuvo más temor de David; y fue Saúl enemigo de David todos los días.”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5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8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152280" y="-61200"/>
            <a:ext cx="8839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 : El rey Saú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I Samuel 18:6-2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a inseguridad de Saúl y el miedo lo llevar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volverse en contra de David, por lo que perdió la perspectiva de lo que era mejor para el paí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e los síntomas de Saú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792600" y="3318840"/>
            <a:ext cx="5199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confianza, sospecha (v.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792600" y="4004640"/>
            <a:ext cx="470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tento de asesinato (v.1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3792600" y="4614480"/>
            <a:ext cx="239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iedo (v.1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792600" y="5300280"/>
            <a:ext cx="384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seguridad (v.15-1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3792600" y="5909760"/>
            <a:ext cx="417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nspiración (v.13, 1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304920" y="3508200"/>
            <a:ext cx="3225600" cy="29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3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1539000" y="26640"/>
            <a:ext cx="630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tando con personas dolid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14840" y="808920"/>
            <a:ext cx="671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lo tomes personal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RTÉ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123840" y="1710000"/>
            <a:ext cx="881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Busque el problema más allá de la persona: S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UITIV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176760" y="3156840"/>
            <a:ext cx="89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Vea más allá de la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SIDERAD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76320" y="3814560"/>
            <a:ext cx="475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No les agregue a su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dolor: Teng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ICIATIV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-92160" y="5303880"/>
            <a:ext cx="52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Ayúdelos a encontrar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yuda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RVICI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ttp://psychcentral.com/blog/wp-content/uploads/2014/01/when-someone-depressed.jpg"/>
          <p:cNvPicPr/>
          <p:nvPr/>
        </p:nvPicPr>
        <p:blipFill>
          <a:blip r:embed="rId1"/>
          <a:srcRect l="9037" t="0" r="9576" b="0"/>
          <a:stretch/>
        </p:blipFill>
        <p:spPr>
          <a:xfrm>
            <a:off x="4800600" y="3886200"/>
            <a:ext cx="419904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1241280" y="114552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1789200" y="2134800"/>
            <a:ext cx="63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He sido herido por alguien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1793160" y="2885760"/>
            <a:ext cx="707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omprendo el dolor detrás de 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9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1638720" y="3059280"/>
            <a:ext cx="7293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Lección 2: 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¿Estamos preparados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para las relaciones?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801800" y="96480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384120" y="23040"/>
            <a:ext cx="52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RTIL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609480" y="601920"/>
            <a:ext cx="579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use un martillo para matar la mosca parada en la cabeza de algu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03760" y="2964240"/>
            <a:ext cx="896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4 Ejemplos de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 la biblia que sin necesidad usaron “martillos”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¡reaccionaron de má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3581280" y="5008320"/>
            <a:ext cx="547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hermanos de José lo dejaron en un pozo para que muriese. (Génesis 38:20-2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ttps://mps110.files.wordpress.com/2013/12/a-cure-for-whatever-ailes-me.jpg"/>
          <p:cNvPicPr/>
          <p:nvPr/>
        </p:nvPicPr>
        <p:blipFill>
          <a:blip r:embed="rId1"/>
          <a:stretch/>
        </p:blipFill>
        <p:spPr>
          <a:xfrm>
            <a:off x="6448320" y="22320"/>
            <a:ext cx="2608200" cy="2949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ttps://eriklindeen.files.wordpress.com/2014/10/joseph.jpg?w=300&amp;h=232"/>
          <p:cNvPicPr/>
          <p:nvPr/>
        </p:nvPicPr>
        <p:blipFill>
          <a:blip r:embed="rId2"/>
          <a:stretch/>
        </p:blipFill>
        <p:spPr>
          <a:xfrm>
            <a:off x="304920" y="4508640"/>
            <a:ext cx="28573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-49320" y="55080"/>
            <a:ext cx="545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rey David mandó a Urías al frente de la batalla a morir (II Samuel 11:14-2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114800" y="282276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rey Herodes ejecutó a los niños (Mateo 2:1-1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6480" y="5173920"/>
            <a:ext cx="494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lato ejecutó a un acusado inocente, Jesú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Mateo 27:11-2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rcRect l="33210" t="0" r="1172" b="0"/>
          <a:stretch/>
        </p:blipFill>
        <p:spPr>
          <a:xfrm>
            <a:off x="6091200" y="130320"/>
            <a:ext cx="2870280" cy="2458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ttp://photos1.blogger.com/x/blogger/4997/461/320/400647/soldiers.jpg"/>
          <p:cNvPicPr/>
          <p:nvPr/>
        </p:nvPicPr>
        <p:blipFill>
          <a:blip r:embed="rId2"/>
          <a:stretch/>
        </p:blipFill>
        <p:spPr>
          <a:xfrm>
            <a:off x="609480" y="1905120"/>
            <a:ext cx="3353040" cy="3006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ttp://4.bp.blogspot.com/_NoaIBawRd-4/Sd5K6NDbkkI/AAAAAAAALFU/6sq8BDa_LaE/s400/jesus-pilate.jpg"/>
          <p:cNvPicPr/>
          <p:nvPr/>
        </p:nvPicPr>
        <p:blipFill>
          <a:blip r:embed="rId3"/>
          <a:srcRect l="0" t="576" r="0" b="33025"/>
          <a:stretch/>
        </p:blipFill>
        <p:spPr>
          <a:xfrm>
            <a:off x="5029200" y="4051440"/>
            <a:ext cx="35812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1771920" y="56160"/>
            <a:ext cx="57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iendo con sabidu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47600" y="737640"/>
            <a:ext cx="7015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 TOTA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No llegue a conclusiones rápidamente, sino escuche para obtener una perspectiva más ampl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3352680" y="3966840"/>
            <a:ext cx="5791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IEMPO OPORTUN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Cuándo actuar podría ser tan importante como tomar la acción correc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" descr=""/>
          <p:cNvPicPr/>
          <p:nvPr/>
        </p:nvPicPr>
        <p:blipFill>
          <a:blip r:embed="rId1"/>
          <a:srcRect l="11237" t="15936" r="13999" b="1437"/>
          <a:stretch/>
        </p:blipFill>
        <p:spPr>
          <a:xfrm>
            <a:off x="7086600" y="676440"/>
            <a:ext cx="1974960" cy="2558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rcRect l="31756" t="0" r="1322" b="0"/>
          <a:stretch/>
        </p:blipFill>
        <p:spPr>
          <a:xfrm>
            <a:off x="147600" y="3505320"/>
            <a:ext cx="318780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0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1771920" y="56160"/>
            <a:ext cx="57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iendo con sabidu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147600" y="753480"/>
            <a:ext cx="5643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ON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La gente usualmente responde a nuestras actitudes más que a nuestras palab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4773600" y="4579920"/>
            <a:ext cx="435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MPERATUR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Asegúrese que el problema y la reacción se correspond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ttps://dailyproverbsdotnet.files.wordpress.com/2012/09/speak-softly.jpg"/>
          <p:cNvPicPr/>
          <p:nvPr/>
        </p:nvPicPr>
        <p:blipFill>
          <a:blip r:embed="rId1"/>
          <a:srcRect l="29835" t="0" r="306" b="0"/>
          <a:stretch/>
        </p:blipFill>
        <p:spPr>
          <a:xfrm>
            <a:off x="5486400" y="684360"/>
            <a:ext cx="2925720" cy="3354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380880" y="3598920"/>
            <a:ext cx="398952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"/>
          <p:cNvSpPr/>
          <p:nvPr/>
        </p:nvSpPr>
        <p:spPr>
          <a:xfrm>
            <a:off x="1243440" y="106920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1066680" y="217260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irían los demás en su organización que reacciona de má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0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153720" y="77400"/>
            <a:ext cx="621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SCENS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533520" y="79884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emos elevar a los demás o llevarlos al suelo en nuestras re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4191120" y="4805640"/>
            <a:ext cx="500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Jonás y el pueblo Nínive (Jonás 4:1-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9" descr="ttp://kool98.com/wp-content/blogs.dir/100/files/2014/05/ELEVATOR.jpg"/>
          <p:cNvPicPr/>
          <p:nvPr/>
        </p:nvPicPr>
        <p:blipFill>
          <a:blip r:embed="rId1"/>
          <a:stretch/>
        </p:blipFill>
        <p:spPr>
          <a:xfrm>
            <a:off x="6559560" y="152280"/>
            <a:ext cx="2489040" cy="24940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"/>
          <p:cNvSpPr/>
          <p:nvPr/>
        </p:nvSpPr>
        <p:spPr>
          <a:xfrm>
            <a:off x="76320" y="2819520"/>
            <a:ext cx="897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mundo se muere por falta de apreciación; está hambriento por cumplidos, pero alguien debe empezar a rodar la pelota al hablar primer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" descr=""/>
          <p:cNvPicPr/>
          <p:nvPr/>
        </p:nvPicPr>
        <p:blipFill>
          <a:blip r:embed="rId2"/>
          <a:srcRect l="0" t="5189" r="0" b="4230"/>
          <a:stretch/>
        </p:blipFill>
        <p:spPr>
          <a:xfrm>
            <a:off x="770040" y="4389480"/>
            <a:ext cx="3268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0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152280" y="3560760"/>
            <a:ext cx="867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estra elección daña más personas de 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 sabemos (v.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52280" y="46278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s endurecemos e insensibilizamos a 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gedias que causamos (v.5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52280" y="5716440"/>
            <a:ext cx="867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demos tanto la integridad como la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112680" y="2554560"/>
            <a:ext cx="859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s perdemos el privilegio d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asociarnos con Dios (v.1-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52280" y="36000"/>
            <a:ext cx="586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nás nos enseña que las consecuencias de rehusarse a animar y servir a otros al estar consumido con las actividades personales de u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ttp://us.cdn2.123rf.com/168nwm/harunatsukobo/harunatsukobo1404/harunatsukobo140400017/28415864-businessm"/>
          <p:cNvPicPr/>
          <p:nvPr/>
        </p:nvPicPr>
        <p:blipFill>
          <a:blip r:embed="rId1"/>
          <a:stretch/>
        </p:blipFill>
        <p:spPr>
          <a:xfrm>
            <a:off x="6075360" y="208080"/>
            <a:ext cx="299232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728280" y="223920"/>
            <a:ext cx="805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levando a otros a un nivel más al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152280" y="1060200"/>
            <a:ext cx="886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s líderes que levantan a otros se comprometen a da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ÁNIM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iariam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6200" y="2382840"/>
            <a:ext cx="513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levantan a otros reconocen la pequeña diferencia que separa herir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YUD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3860640" y="4821120"/>
            <a:ext cx="5511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levantan a otros comprenden que la vida no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SAY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; en realidad sí impo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ttps://sapphirical.files.wordpress.com/2010/04/cartoon_bellhop.jpg"/>
          <p:cNvPicPr/>
          <p:nvPr/>
        </p:nvPicPr>
        <p:blipFill>
          <a:blip r:embed="rId1"/>
          <a:stretch/>
        </p:blipFill>
        <p:spPr>
          <a:xfrm>
            <a:off x="76320" y="2575080"/>
            <a:ext cx="3504960" cy="42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1316160" y="125208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289160" y="2444040"/>
            <a:ext cx="709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irían las demás personas que usted las levanta o las derrumb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152280" y="61308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Quiénes somos determina cómo vemos a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25280" y="1603440"/>
            <a:ext cx="886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SPEJ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 La primera persona que debemos examinar es a nosotros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155520" y="2622960"/>
            <a:ext cx="898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L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Las personas heridas hieren a los demás y son lastimadas con fac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25280" y="399456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RTIL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use un martillo para matar la mosca parada en la cabeza de algu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6320" y="5366160"/>
            <a:ext cx="9067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SCENS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mos elevar a los demás o llevarlos al suelo en nuestras relacione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152280" y="4752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nco Princip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0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0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228600" y="8064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PREGUNTA DE LA PREPAR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tá preparado para las relaci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97080" y="1910160"/>
            <a:ext cx="758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iénes somos determina cómo vemo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ttp://4.bp.blogspot.com/-spHyGxVqSmM/UVl_nlZwsvI/AAAAAAAAHG8/_PdzTYU-cRY/s1600/set+your+mind+on+things+a"/>
          <p:cNvPicPr/>
          <p:nvPr/>
        </p:nvPicPr>
        <p:blipFill>
          <a:blip r:embed="rId1"/>
          <a:stretch/>
        </p:blipFill>
        <p:spPr>
          <a:xfrm>
            <a:off x="3962520" y="3171960"/>
            <a:ext cx="49147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5"/>
          <p:cNvSpPr/>
          <p:nvPr/>
        </p:nvSpPr>
        <p:spPr>
          <a:xfrm>
            <a:off x="228600" y="23004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82680" y="843480"/>
            <a:ext cx="8456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úese a sí mismo: ¿Es débil en cualquiera de estas cinco áreas de preparación? ¿Cuáles son sus áreas más fuertes y las más débil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04920" y="313344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457200" y="3738240"/>
            <a:ext cx="8459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pués de haber repasado el área en la que más necesita crecer, escriba una o dos acciones que usted podría tomar para mejorar en 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0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344520" y="336528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254520" y="1298880"/>
            <a:ext cx="783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IANZA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veré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IABL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52280" y="2659320"/>
            <a:ext cx="541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RITICON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, veré a 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RITICON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25360" y="4501080"/>
            <a:ext cx="548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ONDADOS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veré a 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ASIVO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5742000" y="2819520"/>
            <a:ext cx="3203640" cy="3897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223920" y="76320"/>
            <a:ext cx="872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manera en que las personas ven a los demás es un reflejo de ellos mismo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1530000" y="79560"/>
            <a:ext cx="595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bal y Abigail (I Samuel 25:1-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6019920" y="1177920"/>
            <a:ext cx="3047760" cy="2209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"/>
          <p:cNvSpPr/>
          <p:nvPr/>
        </p:nvSpPr>
        <p:spPr>
          <a:xfrm>
            <a:off x="76320" y="1343160"/>
            <a:ext cx="876276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ientras David y sus hombres s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eparaban para cruzar la propiedad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 Nabal, David mandó a algunos d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us hombres por adelante para que l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eguntaran a Nabal si podría darles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|cualquier cosa, como comida, abrigo o bebida. Esta era una petición justa, ya que David era conocido como el protector de la tierra, el único que había vencido a Goliat y a los filisteos, y el que había sido ungido como futuro rey por Samuel. Sin embargo, Nabal se rehusó; a pesar de que era un hombre rico, se negó a darles algo y los insultó mientras los echó fuera. ¿Por qué trató de esta manera a alguien como David?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1530000" y="196920"/>
            <a:ext cx="595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bal y Abigail (I Samuel 25:1-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7280" y="1382760"/>
            <a:ext cx="31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falla de Nab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227160" y="2049840"/>
            <a:ext cx="548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ció rico y satisfecho; pensaba que no necesitaba establecer relaciones (v.2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96920" y="3735360"/>
            <a:ext cx="879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Se volvió egoísta y desconfiado de otros (v.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96920" y="4575240"/>
            <a:ext cx="887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No dio ni recibió ánimo; no reaccionaba a las buenas actitudes (v.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35000" y="5718240"/>
            <a:ext cx="88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Olvidó cómo otros lo habían bendecido en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ado; sólo contaban las pérdidas (v.7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6019920" y="1295280"/>
            <a:ext cx="30477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262440" y="231480"/>
            <a:ext cx="7815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5. Menospreció a la gente y olvidó sus nombre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 inseguridad le impidió ser generoso (v.10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265320" y="1527120"/>
            <a:ext cx="8238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6. No vio una razón por la cual ayudar a los demá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fría de motivos egocéntricos (v.11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261000" y="2768400"/>
            <a:ext cx="8367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7. Estaba interesado en hacer su propio “reino”, n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l reino de Dios (v.11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2743200" y="4006800"/>
            <a:ext cx="372276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2514600" y="77760"/>
            <a:ext cx="35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éxito de Abigai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228600" y="806400"/>
            <a:ext cx="38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Iniciativa riesg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228600" y="1414440"/>
            <a:ext cx="51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Seguridad emo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228600" y="2100240"/>
            <a:ext cx="38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Humildad genu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228600" y="2773440"/>
            <a:ext cx="518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Respon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s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228600" y="3806640"/>
            <a:ext cx="36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Actitud altru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193680" y="4421880"/>
            <a:ext cx="40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Espíritu genero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193680" y="50371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Enfoque fr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193680" y="564048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. Ingenio agu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4579920" y="806400"/>
            <a:ext cx="39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. Perspectiva et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5"/>
          <p:cNvSpPr/>
          <p:nvPr/>
        </p:nvSpPr>
        <p:spPr>
          <a:xfrm>
            <a:off x="4575240" y="1414440"/>
            <a:ext cx="39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. Afirmación af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5" descr="ttp://4.bp.blogspot.com/-3A5cdbGCM-k/U7Ts0uIrZrI/AAAAAAAAlZc/t2nlnvDPDGg/s1600/2.jpg"/>
          <p:cNvPicPr/>
          <p:nvPr/>
        </p:nvPicPr>
        <p:blipFill>
          <a:blip r:embed="rId1"/>
          <a:srcRect l="10001" t="0" r="3751" b="0"/>
          <a:stretch/>
        </p:blipFill>
        <p:spPr>
          <a:xfrm>
            <a:off x="4116240" y="2622600"/>
            <a:ext cx="484524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1242360" y="129780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1792800" y="2549160"/>
            <a:ext cx="71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 usted una persona negativa 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itiv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789920" y="3844440"/>
            <a:ext cx="630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uál es su percepción de 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má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53:26Z</dcterms:created>
  <dc:creator>montecyr@yahoo.com</dc:creator>
  <dc:description/>
  <dc:language>en-US</dc:language>
  <cp:lastModifiedBy>Monte Cyr</cp:lastModifiedBy>
  <dcterms:modified xsi:type="dcterms:W3CDTF">2021-02-19T21:21:45Z</dcterms:modified>
  <cp:revision>18</cp:revision>
  <dc:subject/>
  <dc:title>PowerPoint Presentation</dc:title>
</cp:coreProperties>
</file>